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A6C-A3EF-4FBC-BDC3-82071A9D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463-A85C-4A8E-A350-1C024EC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7A8-8A0B-4D8B-A07A-3D8772F6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968-A204-4170-B3E2-504FBDD8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E66D-5A61-4EA5-87F5-2B7D1CCE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B831-CEF2-422C-A1C4-F26F8FC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3BC-0158-429A-B265-7AF3902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1178-9D6C-44A3-9FB6-04AEFA62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34A3-09D1-49BC-BB15-D28E332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BCD-220C-4C58-96A4-09A9D0E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0B3-7A8C-4071-8074-3153A3B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2F8-447F-4D52-AD76-9E59020D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222-F000-4191-B7AB-B137A2C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9853-D3AC-4C8F-9E4E-C634E56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1065-6E89-403C-BBC2-7330402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1CA3-B9C8-4C3B-A9AA-930C0E1D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E59-C1CF-4945-ABC7-FCA0A943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2E8-9BCC-4A25-9C1D-C400C3F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C19-992E-4A98-AEA2-DDB6862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17B-A572-4319-84B6-94B7ECEC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BF6-1EC8-4204-81E1-6A1042A0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E5B-4ABE-470E-ACFE-E41DEE8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AA6-538A-486D-BCEA-85B7853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472-96C7-4738-B685-5EB576B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4172-C8B2-48DC-A9B1-93E2BB52E2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432A-1E5A-4C9A-B709-6ED5AD7BD6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vorez44@mail.ru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3880" y="2214360"/>
            <a:ext cx="8062920" cy="38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 РВО-44 события лета»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держание и особенности организации безопасного и комфортого каникулярного отдыха детей в каникулярное врем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Object 30"/>
          <p:cNvGraphicFramePr/>
          <p:nvPr/>
        </p:nvGraphicFramePr>
        <p:xfrm>
          <a:off x="3571920" y="142920"/>
          <a:ext cx="150012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142920"/>
                    <a:ext cx="15001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109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«Делаем мир ярч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Добро не уходит на каникулы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убернская экспедиция-«Живые голоса истории»,Святыни Костромской земли», «Костромские диалекты», «Забытые традиции», «Музейные реликви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следовательский проект «Паспортный стол природы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уристическая эстафета «Тропинками родного края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для малышей «Веселу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Добровольцы-эколог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«Полотно Победы», посвященная 75-летию Великой Победы во второй мировой вой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кспедиция «Они прославили район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тавка народных умельцев «Ремесла Костромской земл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с юных блокеров «Прошу слов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блиотечные посиделки «О чем рассказала книг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треча жителей села«Древо жизни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здник в селе «Радуемся лету!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ция добра и милосердия «Солнечный круг доб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75640" y="2923920"/>
            <a:ext cx="3924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109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фская помощь жителям се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по сохранению природных памятни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ение просветительской работы среди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ращение к общественности с вопросами сохранения культурного наследия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ышение финансовой грамотности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Вкусные» встречи - старинные народные рецеп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а летних трудовых брига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рт-площад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треча рассве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гровая площадка для дошколят «Поиграем, малыш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курс художественного мастерства, организация выстав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стюмированный вечер или карнавальное шеств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линарный мастер-клас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етний пик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468000" y="260280"/>
            <a:ext cx="392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ные события л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557360"/>
            <a:ext cx="83980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тер-класс (поделки из природного материал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тер-класс «Бабушка, науч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еля (день) празднования юбилея Костромской обла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ряд в гостях у отряда (побывать в гостях у другого РВ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оса препятств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адка растений (аллея, цветни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здник дворовых иг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здник мыльных пузыр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смотр и обсуждение филь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тение и обсуждение книг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бор полезных трав / лесных яг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астрономический фестиваль «Деревенские заготовк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курс  видеороликов «Наша дружная компания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авка  гербариев из листьев растений и полевых цве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ртивные состязания и эстафет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836000" y="76500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зультаты проекта на 28.0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ко сформированные представления в муниципальных образованиях о задачах и содержании деятельности РВО, определение муниципальных координаторов РВО, создание муниципального штаба РВ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перечня площадок РВ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общего представления о работе, включение в команду представителей общественности, ветеранов, педагогов, родителей, представителей местных органов самоуправл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участников разновозрастной команды (РВО), выбор капитан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ор направлений деятельности с учетом интересов детей и особенностей социум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работка подробного плана действий Р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что направлено содержание РВО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75044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астие детей в жизни местного сообщества, в решении вопросов преобразования жизн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и совместного досуга, праздников и конкурс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мощь жителям села в благоустройстве территории, парков, природных зон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экологических акций, забота о младших детя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тие добровольческих практи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я  спортивных мероприятий и состязаний, изучение родного края и участие в экспедиция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влечение детей, проживающих в сельской местности, в продуктивную познавательную, коммуникативную, творческую и социально значимую деятель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424760" y="74880"/>
            <a:ext cx="29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Условия интересного лета в Р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7966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рганизуя дела и события лета   вовлекать  жителей села , представителей местного самоуправления, родителей, работников культуры и спорта, библиоте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ворчески подходить  к организации дел и событий РВО, искать объединяющие идеи для ребят всех возрастов и взрослых помощнико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кать пути распространения информации о деятельности РВО, об интересных делах  и событиях  в местном сообществе и на уровне региона, использовать социальные сети, СМ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держивать   успехи  детей в деятельности по проекту «44 события лета» на муниципальном и региональном уровнях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держание деятельности РВО максимально приблизить к жизни села, местного сообщества 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ывать интересы всех возрастов, входящих в РВ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РДШ- площадка для идей  и интересных прое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326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личностное развитие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том числе творческое развитие, популяризация профессий, популяризация здорового образа жизн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гражданская актив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экологическое, культурное, социальное, событийное волонтерство, архивно-поисковая работа, изучение истории и краеведения, деятельность школьных музеев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нформационно-медийное направл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работа школьных пресс-центров, которые освещают в регионах, подготовка репортажей и видеоматериалов для, а также для «Большой школьной редакции» в сети интернет, которая станет полноценным СМИ для всех школьников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оенно-патриотическое направл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деятельности (включает в себя деятельность в Школе безопасности МЧС, Юнармии, проведение военно-патриотических и гражданских акций, работа с ветеранами и др.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800" spc="-1" strike="noStrike">
                <a:solidFill>
                  <a:srgbClr val="990000"/>
                </a:solidFill>
                <a:latin typeface="Verdana"/>
              </a:rPr>
              <a:t>От плана – к результату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!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0800000">
            <a:off x="4496760" y="2174040"/>
            <a:ext cx="290520" cy="1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обный алгоритм деятельности -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именование события, время и место проведения, привлеченные партнеры и взрослы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ъединяющая идея, учет особенностей поселения и местных традици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бор материалов по реализации программы деятельности РВО  и ее результатах( еженедельно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ценка  деятельности РВО на муниципальном уровн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явление лучших практик  деятельности РВО(5 лучших РВО  муниципалитета, представление в региональный  штаб портфолио о деятельности РВ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ставление результатов деятельности РВО ( лучшие практики) в региональный штаб(1 июля, 15 июля, 1 августа, 15 августа)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dvorez44@mail.r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пометкой РВО-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196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051640" y="5373720"/>
            <a:ext cx="730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Сбор информации о деятельности Р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ие мероприятия проведены членами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им образом привлекли внимание общественности к реальным делам и проектам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звать формы привлечения общественности и проведения рекламной кампан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проведенное дело или проект повлияло на решение проблем жизни в местном сообществе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человек участвовало в реальных событиях РВО?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казать циф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люстрация дел фото, отзывами, благодарственными письм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ки  участия РВО в проекте«44 события лета» на муниципальном уровне.</a:t>
            </a:r>
            <a:br>
              <a:rPr sz="4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влечение жителей села в  организованные собы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чимость проводимых дел и проектов для жителей  села, города, реги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ярность деятельности РВО на территории пос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влеченность участников РВО в организацию и проведение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орческий подход  к организации дел и событий РВО, наличие объединяющей идеи Р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ация плана действий Р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пространение информации о деятельности Р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Verdana"/>
              </a:rPr>
              <a:t>Портфолио о деятельности РВ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395280" y="17733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плана действий РВ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е данны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граф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сунки, материалы СМ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социологических опросов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ы, отражающие основные дела РВ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ьютерные презентации, фот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ка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ственные письм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зывы жител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16:18:12Z</dcterms:created>
  <dc:creator>ANS</dc:creator>
  <dc:description/>
  <dc:language>en-US</dc:language>
  <cp:lastModifiedBy>Админ</cp:lastModifiedBy>
  <cp:lastPrinted>2001-08-21T04:23:46Z</cp:lastPrinted>
  <dcterms:modified xsi:type="dcterms:W3CDTF">2019-06-25T13:37:13Z</dcterms:modified>
  <cp:revision>445</cp:revision>
  <dc:subject/>
  <dc:title>Заголовок слайда отсутствует</dc:title>
</cp:coreProperties>
</file>