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290-B4AC-4C11-920E-846ECE1D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448-3AB4-4399-B5A5-59B0DFD1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288-D5D7-490A-8C28-7D6EFDE7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8C7-2DA8-434C-9D9E-E4976676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3F0A-5B2F-4418-82FE-A68A556E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3B51-E1D2-4EBD-8011-17DBBB18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3023-4A46-49EE-B89D-BFE90827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84BB-FC48-4DB0-9BB9-8F9C0C6C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0E77-FDA1-47D2-A8DB-8A97360E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A80A-D41C-4604-A9F0-6B991B9D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82CE-00EA-4091-966C-72B7FCFE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524-C8C1-4C15-8875-48A07D9A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9963-0FA8-4F20-90C5-C58F1793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06A8-916D-4323-9C3B-5BFDAF12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BEBD-BCCE-4FFD-9145-DC6DC702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08AA-7764-4B3C-A485-A028E781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9FA7-0A5E-41DD-B87F-79A42EC8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A24-089F-4E5B-82D7-68924F39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E74D-06C9-40EC-9928-D20E3980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1004-2978-437A-9E39-01A0B742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D3D7-BB46-44AC-BCEB-BF5C73A4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1A0-A6A1-44F1-A989-7E4B8781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5681-E097-41DC-A762-16383F87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C60A-1274-429D-885A-DA83DF6D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9E42-81B8-4927-AFC8-5CCD1BE63F7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9CBC-2EE9-4B94-AFFC-AE671E89DCF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kodtdim.ru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13880" y="2214360"/>
            <a:ext cx="8062920" cy="38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44 события лета»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ганизация каникулярной деятельности детей Костромской област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 временных детских разновозрастных объединения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273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распоряжение администрации области от 11.03.2019 г. № 52-ра «Об организации и обеспечении отдыха, оздоровления и организации занятости детей в Костромской области в 2019 году»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273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273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273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7" name="Object 30"/>
          <p:cNvGraphicFramePr/>
          <p:nvPr/>
        </p:nvGraphicFramePr>
        <p:xfrm>
          <a:off x="3571920" y="142920"/>
          <a:ext cx="150012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142920"/>
                    <a:ext cx="15001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4 этап проекта: «Секреты дружного лета » -15 августа- 20 августа</a:t>
            </a:r>
            <a:br>
              <a:rPr sz="4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092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бор материалов по реализации программы деятельности РВО  и ее результата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готовка итоговых документов о деятельности Р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ценка  деятельности РВО на муниципальном уровн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явление лучших практик  деятельности Р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итогам   муниципального конкурса определяются   5 лучших РВО  муниципалитета , которые  представляют в  региональный штаб портфолио о деятельности РВО (Реализация плана действий РВО, статистические данные, фотографии, рисунки, материалы СМИ; результаты социологических опросов; другие материалы, отражающие основные дела РВО, компьютерные презентации, фото, плакаты, благодарственные письма, отзывы жителей.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зультатом  деятельности данного этапа должно стать  выявление лучших РВО региона,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которые представят практики своей деятельности на итоговом мероприятии проек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2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 этап проекта :« Стратегия успеха!»- Сроки--  1 – 2 ноябр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844640"/>
            <a:ext cx="83264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зентации  деятельности РВО на встрече с общественностью регио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дание Книги «44 события лета», с лучшими  практиками РВО регио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граждение лучших команд РВ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ртфолио о деятельности РВО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395280" y="177336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лизация плана действий РВО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е данны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тографи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исунки, материалы СМ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социологических опросов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ы, отражающие основные дела РВО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ьютерные презентации, фото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кат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лагодарственные письм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зывы жител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ки  участия РВО в проекте«44 события лета» на муниципальном уровне.</a:t>
            </a:r>
            <a:br>
              <a:rPr sz="48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930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влечение жителей села в  организованные событ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начимость проводимых дел и проектов для жителей  села, города, регио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гулярность деятельности РВО на территории посе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влеченность участников РВО в организацию и проведение событ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ворческий подход  к организации дел и событий РВО, наличие объединяющей идеи РВ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ализация плана действий Р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спространение информации о деятельности Р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ные события ле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557360"/>
            <a:ext cx="81090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здник «Делаем мир ярче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кция «Добро не уходит на каникулы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убернская экспедиция-«Живые голоса истории»,Святыни Костромской земли», «Костромские диалекты», «Забытые традиции», «Музейные реликвии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следовательский проект «Паспортный стол природы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уристическая эстафета «Тропинками родного края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здник для малышей «Веселух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кция «Добровольцы-экологи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кция «Полотно Победы», посвященная 75-летию Великой Победы во второй мировой войн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кспедиция «Они прославили район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тавка народных умельцев «Ремесла Костромской земли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урс юных блокеров «Прошу слов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блиотечные посиделки «О чем рассказала книг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треча жителей села«Древо жизни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здник в селе «Радуемся лету!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кция добра и милосердия «Солнечный круг добр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475640" y="2923920"/>
            <a:ext cx="3924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ные события ле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557360"/>
            <a:ext cx="81090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фская помощь жителям се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бота по сохранению природных памятник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ведение просветительской работы среди насел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ращение к общественности с вопросами сохранения культурного наследия и др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вышение финансовой грамотности насел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Вкусные» встречи - старинные народные рецепт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бота летних трудовых брига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рт-площад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стреча рассвет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гровая площадка для дошколят «Поиграем, малыши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курс художественного мастерства, организация выставо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стюмированный вечер или карнавальное шеств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линарный мастер-клас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етний пикни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468000" y="260280"/>
            <a:ext cx="3924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ные события ле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640" y="1557360"/>
            <a:ext cx="839808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астер-класс (поделки из природного материал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астер-класс «Бабушка, научи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деля (день) празднования юбилея Костромской обла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ряд в гостях у отряда (побывать в гостях у другого РВ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оса препятств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садка растений (аллея, цветни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аздник дворовых игр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аздник мыльных пузыр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смотр и обсуждение фильм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чтение и обсуждение книг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бор полезных трав / лесных яго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астрономический фестиваль «Деревенские заготовки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курс  видеороликов «Наша дружная компания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ставка  гербариев из листьев растений и полевых цвет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ртивные состязания и эстафеты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836000" y="765000"/>
            <a:ext cx="3924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ь и задачи  регионального проекта «44 события лета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75044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: создание условий для безопасного и продуктивного каникулярного отдыха детей, способствующих их самореализации, раскрытии их духовного и творческого потенциала.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3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ение  усилий детей и взрослых для организации содержательного летнего отдыха в разновозрастных детских объединениях, с решением  актуальных проблем села – социальных, культурных, бытовы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3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здание  вариативной среды для творческой самореализации школьников регион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3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держка  успехов детей в деятельности по проекту «44 события лета» на муниципальном и региональном уровн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3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овлечение широкого круга общественности в решение реальных проблем  занятости детей в каникулярное врем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3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овлечение детей, проживающих в сельской местности в продуктивную познавательную, коммуникативную, творческую и социально значимую деятельность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работка и внедрение регионального механизма организации деятельности разновозрастных детских объединений, в том числе на территории удаленных сельских посел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4424760" y="74880"/>
            <a:ext cx="29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Результат деятельности проек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73360"/>
            <a:ext cx="796608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формирована безопасная среда каникулярного отдыха детей по месту жительств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влечен широкий круг общественности в решение реальных проблем  занятости детей в каникулярное врем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казано существенное влияние  на качество жизни детей, семей,  на  формирование и  раскрытие  творческого  потенциала  молодых люд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держаны  успехи детей в деятельности по проекту «44 события лета» на муниципальном и региональном уровн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 итогам проекта будет издана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нига «44 события лета»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которой найдут отражение лучшие практики деятельности РВО региона.  Презентация Книги пройдет   на встрече  представителей лучших   разновозрастных объединений  Костромской области с общественностью региона «Мы вместе!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 Этап проекта: «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обрый стар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»(Подготовительный этап)-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5-21 июн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844640"/>
            <a:ext cx="79660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пределение муниципальных координаторов РВО,создание муниципального штаба РВО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знакомление с концепцией деятельности РВО на территории К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перечня организаторов РВО и площадок РВО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и распространение информационно-методических материалов о деятельности РВО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ование общего представления о работе , включение в команду представителей общественности, ветеранов, педагогов, родителей ,представителей местных органов самоуправления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ведение консультаций и семинаров, селекторных совещаний 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пределение участников  разновозрастной команды (РВО), выбор капита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езультатом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на данном этапе  должны стать четко сформированные представления  в муниципалитетах о задачах и содержании  деятельности РВО, разработанный механизм  взаимодействия различных  общественных структур  и организац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 этап проекта: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Совместные дела объединяют»-24-28  июня»</a:t>
            </a:r>
            <a:br>
              <a:rPr sz="4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участников проекта  в муниципальном штабе проект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направлений деятельности с учетом интересов детей и особенностей социум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 подробного плана действий РВ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ом деятельност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 данно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этапе должна стать   система взаимодействия РВО  с  муниципальным штабом и ясное понимание – над чем будет работать команда Р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ация участников проекта в муниципальном штабе проек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правле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05000"/>
            <a:ext cx="80755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ние Р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селенный пункт, муниципалите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сультанты из числа взрослых организаторов Р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питан Р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ощадка РВО, расположение РВО, номер телефо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личество членов РВО, с указанием возрас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 rot="10800000">
            <a:off x="10116360" y="6093000"/>
            <a:ext cx="2879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лан действий РВО.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 rot="10800000">
            <a:off x="4496760" y="2174040"/>
            <a:ext cx="290520" cy="10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2276280"/>
            <a:ext cx="84358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менование событ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и место провед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леченные партнеры и взросл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9636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051640" y="5373720"/>
            <a:ext cx="7308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 этап проект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 Будем работать вместе!» Создание реальных дел и событий»-28 июня- 15 авгус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ализация плана действий , создание реальных событий РВО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стречи с местным самоуправлением, ветеранами, работниками сферы культуры, музеев и библиотек, компетентными специалистами, родителями, проведение с ними консультаци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ние общей картины участия в региональном  проекте«44 события лета»в муниципальном  штабе  (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еженедельный сбор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нформации  о деятельности  РВО).</a:t>
            </a: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 http://kodtdim.ru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зультатом деятельности данного этап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должно стать  организация разнообразной деятельности РВО, привлечение внимания общественности к организованным событиям, проектам и делам, отражение ярких событий  деятельности РВО в С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 о деятельности РВО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ие мероприятия проведены членами РВО?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еречисли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им образом привлекли внимание общественности к реальным делам и проектам РВО?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Назвать формы привлечения общественности и проведения рекламной кампании проект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 проведенное дело или проект повлияло на решение проблем жизни в местном сообществе?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еречисли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олько человек участвовало в реальных событиях РВО?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Указать цифр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люстрация дел фото, отзывами, благодарственными письм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9T16:18:12Z</dcterms:created>
  <dc:creator>ANS</dc:creator>
  <dc:description/>
  <dc:language>en-US</dc:language>
  <cp:lastModifiedBy>Sport</cp:lastModifiedBy>
  <cp:lastPrinted>2001-08-21T04:23:46Z</cp:lastPrinted>
  <dcterms:modified xsi:type="dcterms:W3CDTF">2019-06-14T12:30:20Z</dcterms:modified>
  <cp:revision>445</cp:revision>
  <dc:subject/>
  <dc:title>Заголовок слайда отсутствует</dc:title>
</cp:coreProperties>
</file>